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C5C42-A31A-43B5-89FA-B9281C36A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4FBA4-B805-4F51-967D-D91ED00A0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DBC77-A4B8-4D3A-86D0-A50482587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D8391-8831-4162-BB79-4E32BCF150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315BE-653A-4B9C-9D25-1673D9961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4C42B-1836-4286-92E3-0EE8E2338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53425-AB97-4165-B4EB-8A78CDFB9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B8A6D-7463-4AF4-BEE3-AD0769E31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DB988-6C9E-45AF-8CAB-4C441BB49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B1013-3089-44A8-9D8F-ECF3DA5E1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908F2-942B-48C8-8995-1E3AC1A19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28870-A792-4BD3-9C39-02754B068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5EF91-9860-4294-B3D6-75794BEC6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DBBE7-BED7-49E5-B2D9-BCFE2763E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1EA20-385F-4397-9BD4-EE0A57C00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1E2D8-D947-4519-9FBE-2D3BFEEFB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85567-9111-4E28-B346-501CCE575B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E0A2C1-3AC0-40F9-8A53-D5335F82AA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F21EB5-5218-4902-9DBD-97D59F284C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3AC5F7-2E53-4D7D-BC6B-9EE22DBD87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96575-3003-4D6E-ABA9-CC7C7DB28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AA003-80C6-4AED-AA8B-BCA11071A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686BF-65CF-41DE-8359-6BE718993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58C7ED-2DF9-495E-98CF-97DF08EF8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843939-CD28-4AB8-93AA-547B65462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98FCE-E41C-4FF6-82E1-B21FA9F4B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FF32E-9381-4452-A9D5-A45819BC4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CF2F4B-2626-4EF2-956A-80344EE669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CFCC31-57DD-4113-B71C-56B1351573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80B932-F734-4011-9BBA-565CB5F000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B71D9C-0B70-4BDB-B022-FD6B165196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F13AC1-CC9B-4255-B149-615A8B256F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E3DFBE-262A-4D26-BE47-9B50D5BAC2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3799F-49A0-4ED7-A3EC-60687A1F1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36118A-D62E-4B5A-B909-6F04D3F3D8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C09DFA-E990-411C-81D7-ADE62E252E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D43DF2-9A09-4DF9-B3D1-5FF614AF84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9A8D4-B15C-4150-8447-9E7F1660DF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99EF77-3F09-4878-A0D6-5712B10D82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7F24A4-6F65-404A-9BDC-E00833AB4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736DC0-E883-42BE-B198-664F76CBF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101FDD-A3E9-4CD5-90C8-D5173A61DC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6A4C36-45FE-44B8-BD01-883530011A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D874EE-5666-4272-90E4-2E91E6A890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43DCB-FA8F-4B3F-8D71-EE2B63DBD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E41C72-F0DD-4189-841D-3F79286DE7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FD0771-5CA0-47DC-8DC8-0F5F27ED8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434B6D-F183-4AA5-8EDD-E4A58C7AFE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A9D86B-0603-4979-89FA-761D1DE6A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A252C5-0CDA-421A-ABE1-0951E35794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78EB1-1DE8-454D-9124-5D3A374604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BE819-9255-41F4-93E9-127EC040FA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589AC-E76F-44C1-9A26-3C03E03EA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13B892-4351-4F69-9E71-8DDDD2F620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EA903F-2947-434E-B531-07F545DB8D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45D57-74C7-4A5F-96A6-A3699C314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B4066B-5C84-4C49-B06B-8E9D436821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25E4B5-2197-4336-92A2-BEFE24A954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15E5E8-9C40-4D06-89C1-2DDEAE970B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841007-FBB2-46FE-A07F-59719F1774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8E3073-CBA7-45EC-9633-3463FFE2D8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C44261-DAA1-4178-A52E-F80EDDDCF5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438545-8332-4DDD-B9F2-175786B0E8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F4806-5088-4B23-BD73-56D242B844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E1525-B0D3-4779-AE30-5F32A8EBB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7C273-0DBD-4DC9-9D40-52917BD99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0E37-46DA-4AE4-9145-350FA120F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446002-C15C-43B3-A81E-EA336BE6BA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694BD1-17EE-43F7-8F00-42B6363EB7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7B16BD-6147-43B5-9FDF-608BDE66E1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37B666-699A-4873-8F09-082911707F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3CBA2F-5C73-49F1-AE5A-EC347F5338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60D558-0E62-433D-9D5E-A5E3EB1BB4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9030AB-DB77-456E-B597-A6FC681938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93A33C-2A53-45E6-AD52-35B4381640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F94BA0-913A-4C33-9F5A-0FDD2359B2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D1FC78-0BAF-46C2-92EF-6D02EEA980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5EBFE-506E-42DB-9D17-C69885265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01EB6F-11FA-40C7-B3C2-61D4EF05B5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2D183-0943-48EA-A97E-20966AFA73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1B6CC8-2324-413D-846B-0EDB24C50C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7D5E33-0BDA-4437-AAEE-254B0BA7A2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6BFBFA-8DDB-4E06-A244-A1163E56A2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9081CC-9CC5-491F-BB74-387DC965A4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449BC0-86FB-47AF-8212-E735C2DB13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3B1CA7-A1E2-4DBF-B9BA-E10B06B95A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93FBE8-0C82-4FE8-9287-3B540C6AF6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5962F9-8755-4F32-90B9-A0B92A2694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35BB4-68F1-411F-B90F-65C65147F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3B8763-E43E-43DC-BCCE-92A26F3B4B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6D2801-31C2-4814-97D3-9D19748DC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8B386F-A2F4-424D-A569-B9A782B4CB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76821C-E723-40B1-852A-B90A85220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57A508-8C35-48A6-8E56-37BBA9A081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DB08AA-8739-4EEA-9EBD-B30FD0410E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A23592-C311-4EEB-BAF5-0C1E30D7068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9E3E-C35D-412D-8A8B-90729FD9436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36F1-700F-4B40-BB72-A67F839CC3F3}"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DF32-D3D8-4505-83D2-092CF217589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EC69-1259-47A4-961D-77D43F17690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C40C-2D9A-4519-AF50-0CB1DEE3541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1AE3-8F66-4E5E-B066-8B7826FA08D8}"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833C5-C71B-49A8-B826-84A097BCC34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06A5-C8AF-429F-ADF5-4DBE400F98E6}"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8259840" cy="1841400"/>
          </a:xfrm>
          <a:prstGeom prst="rect">
            <a:avLst/>
          </a:prstGeom>
          <a:ln w="0">
            <a:noFill/>
          </a:ln>
        </p:spPr>
      </p:pic>
      <p:sp>
        <p:nvSpPr>
          <p:cNvPr id="371" name="PlaceHolder 1"/>
          <p:cNvSpPr>
            <a:spLocks noGrp="1"/>
          </p:cNvSpPr>
          <p:nvPr>
            <p:ph type="subTitle"/>
          </p:nvPr>
        </p:nvSpPr>
        <p:spPr>
          <a:xfrm>
            <a:off x="685440" y="3611520"/>
            <a:ext cx="441972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Max Steele</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
          <p:cNvPicPr/>
          <p:nvPr/>
        </p:nvPicPr>
        <p:blipFill>
          <a:blip r:embed="rId1"/>
          <a:stretch/>
        </p:blipFill>
        <p:spPr>
          <a:xfrm>
            <a:off x="3124080" y="457200"/>
            <a:ext cx="395604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See full size image"/>
          <p:cNvPicPr/>
          <p:nvPr/>
        </p:nvPicPr>
        <p:blipFill>
          <a:blip r:embed="rId1"/>
          <a:stretch/>
        </p:blipFill>
        <p:spPr>
          <a:xfrm>
            <a:off x="914400" y="228600"/>
            <a:ext cx="788976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4" descr="http://www.sheldoncollege.com/Portals/0/kindy2.jpg"/>
          <p:cNvPicPr/>
          <p:nvPr/>
        </p:nvPicPr>
        <p:blipFill>
          <a:blip r:embed="rId1"/>
          <a:stretch/>
        </p:blipFill>
        <p:spPr>
          <a:xfrm>
            <a:off x="861840" y="990720"/>
            <a:ext cx="6758280" cy="493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o you think that a teacher should treat students like adults or like childre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ow important is it to have good manners and social pois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can teachers do to increase or decrease a student’s sense of prid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do you consider to be the really important things a person needs to learn in schoo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at are some ways in which little things tell you a lot about people---such as their manners, how they enter a room, or the way they say their nam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y do people sometimes become shy when they say their names?</a:t>
            </a:r>
            <a:endParaRPr b="0" lang="en-US" sz="2300" spc="-1" strike="noStrike">
              <a:solidFill>
                <a:srgbClr val="000000"/>
              </a:solidFill>
              <a:latin typeface="Lucida Sans Unicode"/>
            </a:endParaRPr>
          </a:p>
        </p:txBody>
      </p:sp>
      <p:pic>
        <p:nvPicPr>
          <p:cNvPr id="376" name="Title 1"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481040"/>
            <a:ext cx="8229600" cy="4525920"/>
          </a:xfrm>
          <a:prstGeom prst="rect">
            <a:avLst/>
          </a:prstGeom>
          <a:noFill/>
          <a:ln w="0">
            <a:noFill/>
          </a:ln>
        </p:spPr>
        <p:txBody>
          <a:bodyPr anchor="t">
            <a:normAutofit fontScale="89000"/>
          </a:bodyPr>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writer attended the kindergarten of Miss Effie Barr in 1930. No Southern lady of Miss Effie's generation worked. From 1910 to 1940 she supplemented her income by teaching 11 children at the rate of two dollars a week. She taught them: to drink coffee, sweep, dust, garden, wash windows, behave as ladies &amp; gentlemen, &amp; read. It was said by the public school teachers that the children she had taught to read had grown up reading everything they could find. She made it clear that parents did not need to know what their children did while under her instruction. Her cat was old &amp; liked to fight. When it came home torn &amp; bleeding, the children helped her chloroform it. She dismissed them early, saying, "Tell your parents the only thing Miss Effie had to teach you today was how to kill a cat."</a:t>
            </a:r>
            <a:endParaRPr b="0" lang="en-US" sz="20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24720" indent="-227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8" name="Title 2" descr=""/>
          <p:cNvPicPr/>
          <p:nvPr/>
        </p:nvPicPr>
        <p:blipFill>
          <a:blip r:embed="rId1"/>
          <a:stretch/>
        </p:blipFill>
        <p:spPr>
          <a:xfrm>
            <a:off x="401760" y="146160"/>
            <a:ext cx="8291520" cy="123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12:42:37Z</dcterms:created>
  <dc:creator>Ashley</dc:creator>
  <dc:description/>
  <dc:language>en-US</dc:language>
  <cp:lastModifiedBy>Ashley</cp:lastModifiedBy>
  <dcterms:modified xsi:type="dcterms:W3CDTF">2010-07-14T12:44:15Z</dcterms:modified>
  <cp:revision>8</cp:revision>
  <dc:subject/>
  <dc:title>“The Cat and the Coffee Drinkers”</dc:title>
</cp:coreProperties>
</file>